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wmf" ContentType="image/x-wmf"/>
  <Override PartName="/ppt/media/image1.png" ContentType="image/png"/>
  <Override PartName="/ppt/media/image28.wmf" ContentType="image/x-wmf"/>
  <Override PartName="/ppt/media/image27.wmf" ContentType="image/x-wmf"/>
  <Override PartName="/ppt/media/image26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6.png" ContentType="image/png"/>
  <Override PartName="/ppt/media/image2.png" ContentType="image/png"/>
  <Override PartName="/ppt/media/image10.wmf" ContentType="image/x-wmf"/>
  <Override PartName="/ppt/media/image47.wmf" ContentType="image/x-wmf"/>
  <Override PartName="/ppt/media/image7.wmf" ContentType="image/x-wmf"/>
  <Override PartName="/ppt/media/image37.wmf" ContentType="image/x-wmf"/>
  <Override PartName="/ppt/media/image4.png" ContentType="image/png"/>
  <Override PartName="/ppt/media/image35.wmf" ContentType="image/x-wmf"/>
  <Override PartName="/ppt/media/image36.wmf" ContentType="image/x-wmf"/>
  <Override PartName="/ppt/media/image42.wmf" ContentType="image/x-wmf"/>
  <Override PartName="/ppt/media/image43.wmf" ContentType="image/x-wmf"/>
  <Override PartName="/ppt/media/image44.wmf" ContentType="image/x-wmf"/>
  <Override PartName="/ppt/media/image45.wmf" ContentType="image/x-wmf"/>
  <Override PartName="/ppt/media/image46.wmf" ContentType="image/x-wmf"/>
  <Override PartName="/ppt/media/image3.png" ContentType="image/png"/>
  <Override PartName="/ppt/media/image50.wmf" ContentType="image/x-wmf"/>
  <Override PartName="/ppt/media/image11.wmf" ContentType="image/x-wmf"/>
  <Override PartName="/ppt/media/image48.wmf" ContentType="image/x-wmf"/>
  <Override PartName="/ppt/media/image13.wmf" ContentType="image/x-wmf"/>
  <Override PartName="/ppt/media/image5.png" ContentType="image/png"/>
  <Override PartName="/ppt/media/image51.wmf" ContentType="image/x-wmf"/>
  <Override PartName="/ppt/media/image40.wmf" ContentType="image/x-wmf"/>
  <Override PartName="/ppt/media/image52.wmf" ContentType="image/x-wmf"/>
  <Override PartName="/ppt/media/image41.wmf" ContentType="image/x-wmf"/>
  <Override PartName="/ppt/media/image53.wmf" ContentType="image/x-wmf"/>
  <Override PartName="/ppt/media/image34.wmf" ContentType="image/x-wmf"/>
  <Override PartName="/ppt/media/image39.wmf" ContentType="image/x-wmf"/>
  <Override PartName="/ppt/media/image9.wmf" ContentType="image/x-wmf"/>
  <Override PartName="/ppt/media/image33.wmf" ContentType="image/x-wmf"/>
  <Override PartName="/ppt/media/image38.wmf" ContentType="image/x-wmf"/>
  <Override PartName="/ppt/media/image8.wmf" ContentType="image/x-wmf"/>
  <Override PartName="/ppt/media/image32.wmf" ContentType="image/x-wmf"/>
  <Override PartName="/ppt/media/image31.wmf" ContentType="image/x-wmf"/>
  <Override PartName="/ppt/media/image30.wmf" ContentType="image/x-wmf"/>
  <Override PartName="/ppt/media/image49.wmf" ContentType="image/x-wmf"/>
  <Override PartName="/ppt/media/image12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embeddings/oleObject1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9E52F-3915-4843-A2E2-B3CC6BA56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D5895-99F0-4A67-AE48-9D982869C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3D3DD-3F39-4AFD-B3B0-9B8B44364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87909-1E12-4C3B-ABBD-792158B2A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7C724-99C4-4C52-806E-60D7AA720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47E1C-D262-4E00-9C3D-7EBBA7E6F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0C2A9-C96D-43A9-A705-26A334F40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9A1EE-D2FE-45D0-9AD4-8141F1D60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3F399-DCE8-48CD-BC95-C67B213B6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6A1ED-BB8E-4AB8-BA33-55E422F63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CF2F6-6D63-4C6C-8165-32B23488B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257F6-0589-40BF-8524-2775FD628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8445F-E756-4937-AFC4-C7CE97D8DB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tmp/home/.config/libreoffice/4/user/gallery/TingBell3.wav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4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45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46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47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48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49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50.wmf"/><Relationship Id="rId18" Type="http://schemas.openxmlformats.org/officeDocument/2006/relationships/oleObject" Target="../embeddings/oleObject9.bin"/><Relationship Id="rId19" Type="http://schemas.openxmlformats.org/officeDocument/2006/relationships/image" Target="../media/image51.wmf"/><Relationship Id="rId20" Type="http://schemas.openxmlformats.org/officeDocument/2006/relationships/oleObject" Target="../embeddings/oleObject10.bin"/><Relationship Id="rId21" Type="http://schemas.openxmlformats.org/officeDocument/2006/relationships/image" Target="../media/image52.wmf"/><Relationship Id="rId22" Type="http://schemas.openxmlformats.org/officeDocument/2006/relationships/oleObject" Target="../embeddings/oleObject11.bin"/><Relationship Id="rId23" Type="http://schemas.openxmlformats.org/officeDocument/2006/relationships/image" Target="../media/image53.wmf"/><Relationship Id="rId24" Type="http://schemas.openxmlformats.org/officeDocument/2006/relationships/hyperlink" Target="file:///tmp/home/.config/libreoffice/4/user/gallery/TingBell3.wav" TargetMode="External"/><Relationship Id="rId25" Type="http://schemas.openxmlformats.org/officeDocument/2006/relationships/image" Target="../media/image6.png"/><Relationship Id="rId2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file:///tmp/home/.config/libreoffice/4/user/gallery/TingBell3.wav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hyperlink" Target="file:///tmp/home/.config/libreoffice/4/user/gallery/TingBell3.wav" TargetMode="External"/><Relationship Id="rId4" Type="http://schemas.openxmlformats.org/officeDocument/2006/relationships/image" Target="../media/image6.png"/><Relationship Id="rId5" Type="http://schemas.openxmlformats.org/officeDocument/2006/relationships/hyperlink" Target="file:///tmp/home/.config/libreoffice/4/user/gallery/TingBell3.wav" TargetMode="External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oleObject" Target="../embeddings/oleObject1.bin"/><Relationship Id="rId9" Type="http://schemas.openxmlformats.org/officeDocument/2006/relationships/image" Target="../media/image7.wmf"/><Relationship Id="rId10" Type="http://schemas.openxmlformats.org/officeDocument/2006/relationships/oleObject" Target="../embeddings/oleObject2.bin"/><Relationship Id="rId11" Type="http://schemas.openxmlformats.org/officeDocument/2006/relationships/image" Target="../media/image8.wmf"/><Relationship Id="rId1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hyperlink" Target="file:///tmp/home/.config/libreoffice/4/user/gallery/TingBell3.wav" TargetMode="External"/><Relationship Id="rId4" Type="http://schemas.openxmlformats.org/officeDocument/2006/relationships/image" Target="../media/image6.png"/><Relationship Id="rId5" Type="http://schemas.openxmlformats.org/officeDocument/2006/relationships/hyperlink" Target="file:///tmp/home/.config/libreoffice/4/user/gallery/TingBell3.wav" TargetMode="External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oleObject" Target="../embeddings/oleObject1.bin"/><Relationship Id="rId9" Type="http://schemas.openxmlformats.org/officeDocument/2006/relationships/image" Target="../media/image9.wmf"/><Relationship Id="rId10" Type="http://schemas.openxmlformats.org/officeDocument/2006/relationships/oleObject" Target="../embeddings/oleObject2.bin"/><Relationship Id="rId11" Type="http://schemas.openxmlformats.org/officeDocument/2006/relationships/image" Target="../media/image10.wmf"/><Relationship Id="rId12" Type="http://schemas.openxmlformats.org/officeDocument/2006/relationships/oleObject" Target="../embeddings/oleObject3.bin"/><Relationship Id="rId13" Type="http://schemas.openxmlformats.org/officeDocument/2006/relationships/image" Target="../media/image11.wmf"/><Relationship Id="rId14" Type="http://schemas.openxmlformats.org/officeDocument/2006/relationships/oleObject" Target="../embeddings/oleObject4.bin"/><Relationship Id="rId15" Type="http://schemas.openxmlformats.org/officeDocument/2006/relationships/image" Target="../media/image12.wmf"/><Relationship Id="rId16" Type="http://schemas.openxmlformats.org/officeDocument/2006/relationships/oleObject" Target="../embeddings/oleObject5.bin"/><Relationship Id="rId17" Type="http://schemas.openxmlformats.org/officeDocument/2006/relationships/image" Target="../media/image13.wmf"/><Relationship Id="rId1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hyperlink" Target="file:///tmp/home/.config/libreoffice/4/user/gallery/TingBell3.wav" TargetMode="External"/><Relationship Id="rId4" Type="http://schemas.openxmlformats.org/officeDocument/2006/relationships/image" Target="../media/image6.png"/><Relationship Id="rId5" Type="http://schemas.openxmlformats.org/officeDocument/2006/relationships/hyperlink" Target="file:///tmp/home/.config/libreoffice/4/user/gallery/TingBell3.wav" TargetMode="External"/><Relationship Id="rId6" Type="http://schemas.openxmlformats.org/officeDocument/2006/relationships/image" Target="../media/image2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14.wmf"/><Relationship Id="rId9" Type="http://schemas.openxmlformats.org/officeDocument/2006/relationships/oleObject" Target="../embeddings/oleObject2.bin"/><Relationship Id="rId10" Type="http://schemas.openxmlformats.org/officeDocument/2006/relationships/image" Target="../media/image15.wmf"/><Relationship Id="rId11" Type="http://schemas.openxmlformats.org/officeDocument/2006/relationships/oleObject" Target="../embeddings/oleObject3.bin"/><Relationship Id="rId12" Type="http://schemas.openxmlformats.org/officeDocument/2006/relationships/image" Target="../media/image16.wmf"/><Relationship Id="rId13" Type="http://schemas.openxmlformats.org/officeDocument/2006/relationships/oleObject" Target="../embeddings/oleObject4.bin"/><Relationship Id="rId14" Type="http://schemas.openxmlformats.org/officeDocument/2006/relationships/image" Target="../media/image17.wmf"/><Relationship Id="rId15" Type="http://schemas.openxmlformats.org/officeDocument/2006/relationships/oleObject" Target="../embeddings/oleObject5.bin"/><Relationship Id="rId16" Type="http://schemas.openxmlformats.org/officeDocument/2006/relationships/image" Target="../media/image18.wmf"/><Relationship Id="rId17" Type="http://schemas.openxmlformats.org/officeDocument/2006/relationships/oleObject" Target="../embeddings/oleObject6.bin"/><Relationship Id="rId18" Type="http://schemas.openxmlformats.org/officeDocument/2006/relationships/image" Target="../media/image19.wmf"/><Relationship Id="rId1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hyperlink" Target="file:///tmp/home/.config/libreoffice/4/user/gallery/TingBell3.wav" TargetMode="External"/><Relationship Id="rId4" Type="http://schemas.openxmlformats.org/officeDocument/2006/relationships/image" Target="../media/image6.png"/><Relationship Id="rId5" Type="http://schemas.openxmlformats.org/officeDocument/2006/relationships/hyperlink" Target="file:///tmp/home/.config/libreoffice/4/user/gallery/TingBell3.wav" TargetMode="External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oleObject" Target="../embeddings/oleObject1.bin"/><Relationship Id="rId9" Type="http://schemas.openxmlformats.org/officeDocument/2006/relationships/image" Target="../media/image20.wmf"/><Relationship Id="rId10" Type="http://schemas.openxmlformats.org/officeDocument/2006/relationships/oleObject" Target="../embeddings/oleObject2.bin"/><Relationship Id="rId11" Type="http://schemas.openxmlformats.org/officeDocument/2006/relationships/image" Target="../media/image21.wmf"/><Relationship Id="rId12" Type="http://schemas.openxmlformats.org/officeDocument/2006/relationships/image" Target="../media/image22.png"/><Relationship Id="rId13" Type="http://schemas.openxmlformats.org/officeDocument/2006/relationships/oleObject" Target="../embeddings/oleObject3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4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5.bin"/><Relationship Id="rId18" Type="http://schemas.openxmlformats.org/officeDocument/2006/relationships/image" Target="../media/image25.wmf"/><Relationship Id="rId19" Type="http://schemas.openxmlformats.org/officeDocument/2006/relationships/oleObject" Target="../embeddings/oleObject6.bin"/><Relationship Id="rId20" Type="http://schemas.openxmlformats.org/officeDocument/2006/relationships/image" Target="../media/image26.wmf"/><Relationship Id="rId21" Type="http://schemas.openxmlformats.org/officeDocument/2006/relationships/oleObject" Target="../embeddings/oleObject7.bin"/><Relationship Id="rId22" Type="http://schemas.openxmlformats.org/officeDocument/2006/relationships/image" Target="../media/image27.wmf"/><Relationship Id="rId23" Type="http://schemas.openxmlformats.org/officeDocument/2006/relationships/oleObject" Target="../embeddings/oleObject8.bin"/><Relationship Id="rId24" Type="http://schemas.openxmlformats.org/officeDocument/2006/relationships/image" Target="../media/image28.wmf"/><Relationship Id="rId25" Type="http://schemas.openxmlformats.org/officeDocument/2006/relationships/oleObject" Target="../embeddings/oleObject9.bin"/><Relationship Id="rId26" Type="http://schemas.openxmlformats.org/officeDocument/2006/relationships/image" Target="../media/image29.wmf"/><Relationship Id="rId27" Type="http://schemas.openxmlformats.org/officeDocument/2006/relationships/oleObject" Target="../embeddings/oleObject10.bin"/><Relationship Id="rId28" Type="http://schemas.openxmlformats.org/officeDocument/2006/relationships/image" Target="../media/image30.wmf"/><Relationship Id="rId29" Type="http://schemas.openxmlformats.org/officeDocument/2006/relationships/oleObject" Target="../embeddings/oleObject11.bin"/><Relationship Id="rId30" Type="http://schemas.openxmlformats.org/officeDocument/2006/relationships/image" Target="../media/image31.wmf"/><Relationship Id="rId31" Type="http://schemas.openxmlformats.org/officeDocument/2006/relationships/oleObject" Target="../embeddings/oleObject12.bin"/><Relationship Id="rId32" Type="http://schemas.openxmlformats.org/officeDocument/2006/relationships/image" Target="../media/image32.wmf"/><Relationship Id="rId3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hyperlink" Target="file:///tmp/home/.config/libreoffice/4/user/gallery/TingBell3.wav" TargetMode="External"/><Relationship Id="rId4" Type="http://schemas.openxmlformats.org/officeDocument/2006/relationships/image" Target="../media/image6.png"/><Relationship Id="rId5" Type="http://schemas.openxmlformats.org/officeDocument/2006/relationships/hyperlink" Target="file:///tmp/home/.config/libreoffice/4/user/gallery/TingBell3.wav" TargetMode="External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oleObject" Target="../embeddings/oleObject1.bin"/><Relationship Id="rId9" Type="http://schemas.openxmlformats.org/officeDocument/2006/relationships/image" Target="../media/image33.wmf"/><Relationship Id="rId10" Type="http://schemas.openxmlformats.org/officeDocument/2006/relationships/oleObject" Target="../embeddings/oleObject2.bin"/><Relationship Id="rId11" Type="http://schemas.openxmlformats.org/officeDocument/2006/relationships/image" Target="../media/image34.wmf"/><Relationship Id="rId12" Type="http://schemas.openxmlformats.org/officeDocument/2006/relationships/oleObject" Target="../embeddings/oleObject3.bin"/><Relationship Id="rId13" Type="http://schemas.openxmlformats.org/officeDocument/2006/relationships/image" Target="../media/image35.wmf"/><Relationship Id="rId14" Type="http://schemas.openxmlformats.org/officeDocument/2006/relationships/oleObject" Target="../embeddings/oleObject4.bin"/><Relationship Id="rId15" Type="http://schemas.openxmlformats.org/officeDocument/2006/relationships/image" Target="../media/image36.wmf"/><Relationship Id="rId1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hyperlink" Target="file:///tmp/home/.config/libreoffice/4/user/gallery/TingBell3.wav" TargetMode="External"/><Relationship Id="rId4" Type="http://schemas.openxmlformats.org/officeDocument/2006/relationships/image" Target="../media/image6.png"/><Relationship Id="rId5" Type="http://schemas.openxmlformats.org/officeDocument/2006/relationships/hyperlink" Target="file:///tmp/home/.config/libreoffice/4/user/gallery/TingBell3.wav" TargetMode="External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oleObject" Target="../embeddings/oleObject1.bin"/><Relationship Id="rId9" Type="http://schemas.openxmlformats.org/officeDocument/2006/relationships/image" Target="../media/image37.wmf"/><Relationship Id="rId10" Type="http://schemas.openxmlformats.org/officeDocument/2006/relationships/oleObject" Target="../embeddings/oleObject2.bin"/><Relationship Id="rId11" Type="http://schemas.openxmlformats.org/officeDocument/2006/relationships/image" Target="../media/image38.wmf"/><Relationship Id="rId12" Type="http://schemas.openxmlformats.org/officeDocument/2006/relationships/oleObject" Target="../embeddings/oleObject3.bin"/><Relationship Id="rId13" Type="http://schemas.openxmlformats.org/officeDocument/2006/relationships/image" Target="../media/image39.wmf"/><Relationship Id="rId14" Type="http://schemas.openxmlformats.org/officeDocument/2006/relationships/oleObject" Target="../embeddings/oleObject4.bin"/><Relationship Id="rId15" Type="http://schemas.openxmlformats.org/officeDocument/2006/relationships/image" Target="../media/image40.wmf"/><Relationship Id="rId16" Type="http://schemas.openxmlformats.org/officeDocument/2006/relationships/oleObject" Target="../embeddings/oleObject5.bin"/><Relationship Id="rId17" Type="http://schemas.openxmlformats.org/officeDocument/2006/relationships/image" Target="../media/image41.wmf"/><Relationship Id="rId18" Type="http://schemas.openxmlformats.org/officeDocument/2006/relationships/oleObject" Target="../embeddings/oleObject6.bin"/><Relationship Id="rId19" Type="http://schemas.openxmlformats.org/officeDocument/2006/relationships/image" Target="../media/image42.wmf"/><Relationship Id="rId2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hyperlink" Target="file:///tmp/home/.config/libreoffice/4/user/gallery/TingBell3.wav" TargetMode="External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2420640"/>
            <a:ext cx="7772400" cy="10112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Quadratic The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98400" y="3857760"/>
            <a:ext cx="773280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ateg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2841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Higher Math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507960" y="333360"/>
            <a:ext cx="8096400" cy="4287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993840" y="6181560"/>
            <a:ext cx="14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Click to st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>
            <a:hlinkClick r:id="" action="ppaction://hlinkshowjump?jump=nextslide"/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282920" y="5433840"/>
            <a:ext cx="762120" cy="762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4800"/>
                            </p:stCondLst>
                            <p:childTnLst>
                              <p:par>
                                <p:cTn id="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30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8247240" y="5889600"/>
            <a:ext cx="576000" cy="773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9" name=""/>
          <p:cNvGraphicFramePr/>
          <p:nvPr/>
        </p:nvGraphicFramePr>
        <p:xfrm>
          <a:off x="1698480" y="1682640"/>
          <a:ext cx="5827680" cy="3835440"/>
        </p:xfrm>
        <a:graphic>
          <a:graphicData uri="http://schemas.openxmlformats.org/drawingml/2006/table">
            <a:tbl>
              <a:tblPr/>
              <a:tblGrid>
                <a:gridCol w="1456920"/>
                <a:gridCol w="1456920"/>
                <a:gridCol w="1456560"/>
                <a:gridCol w="1457280"/>
              </a:tblGrid>
              <a:tr h="766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50" name=""/>
          <p:cNvGraphicFramePr/>
          <p:nvPr/>
        </p:nvGraphicFramePr>
        <p:xfrm>
          <a:off x="3695760" y="2463840"/>
          <a:ext cx="312840" cy="745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695760" y="2463840"/>
                    <a:ext cx="312840" cy="74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2" name=""/>
          <p:cNvGraphicFramePr/>
          <p:nvPr/>
        </p:nvGraphicFramePr>
        <p:xfrm>
          <a:off x="5175360" y="2449440"/>
          <a:ext cx="312480" cy="746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5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175360" y="2449440"/>
                    <a:ext cx="312480" cy="74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4" name=""/>
          <p:cNvGraphicFramePr/>
          <p:nvPr/>
        </p:nvGraphicFramePr>
        <p:xfrm>
          <a:off x="6599160" y="2449440"/>
          <a:ext cx="312840" cy="7462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5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599160" y="2449440"/>
                    <a:ext cx="312840" cy="74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6" name=""/>
          <p:cNvGraphicFramePr/>
          <p:nvPr/>
        </p:nvGraphicFramePr>
        <p:xfrm>
          <a:off x="6667560" y="3997440"/>
          <a:ext cx="288720" cy="7459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57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6667560" y="3997440"/>
                    <a:ext cx="288720" cy="74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8" name=""/>
          <p:cNvGraphicFramePr/>
          <p:nvPr/>
        </p:nvGraphicFramePr>
        <p:xfrm>
          <a:off x="3722760" y="3230640"/>
          <a:ext cx="288720" cy="7459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59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3722760" y="3230640"/>
                    <a:ext cx="288720" cy="74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0" name=""/>
          <p:cNvGraphicFramePr/>
          <p:nvPr/>
        </p:nvGraphicFramePr>
        <p:xfrm>
          <a:off x="6529320" y="3220920"/>
          <a:ext cx="455760" cy="7732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261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6529320" y="3220920"/>
                    <a:ext cx="455760" cy="77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2" name=""/>
          <p:cNvGraphicFramePr/>
          <p:nvPr/>
        </p:nvGraphicFramePr>
        <p:xfrm>
          <a:off x="3625920" y="4002120"/>
          <a:ext cx="455400" cy="77292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263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3625920" y="4002120"/>
                    <a:ext cx="455400" cy="77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4" name=""/>
          <p:cNvGraphicFramePr/>
          <p:nvPr/>
        </p:nvGraphicFramePr>
        <p:xfrm>
          <a:off x="5121360" y="3219480"/>
          <a:ext cx="477720" cy="75096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265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5121360" y="3219480"/>
                    <a:ext cx="477720" cy="75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6" name=""/>
          <p:cNvGraphicFramePr/>
          <p:nvPr/>
        </p:nvGraphicFramePr>
        <p:xfrm>
          <a:off x="5121360" y="4000680"/>
          <a:ext cx="477720" cy="75060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267" name="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5121360" y="4000680"/>
                    <a:ext cx="477720" cy="75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8" name=""/>
          <p:cNvGraphicFramePr/>
          <p:nvPr/>
        </p:nvGraphicFramePr>
        <p:xfrm>
          <a:off x="3666960" y="4754520"/>
          <a:ext cx="455760" cy="75096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269" name="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3666960" y="4754520"/>
                    <a:ext cx="455760" cy="75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0" name=""/>
          <p:cNvGraphicFramePr/>
          <p:nvPr/>
        </p:nvGraphicFramePr>
        <p:xfrm>
          <a:off x="6539040" y="4842000"/>
          <a:ext cx="556920" cy="556920"/>
        </p:xfrm>
        <a:graphic>
          <a:graphicData uri="http://schemas.openxmlformats.org/presentationml/2006/ole">
            <p:oleObj r:id="rId22" spid="">
              <p:embed/>
              <p:pic>
                <p:nvPicPr>
                  <p:cNvPr id="271" name="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>
                    <a:off x="6539040" y="4842000"/>
                    <a:ext cx="556920" cy="55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2" name=""/>
          <p:cNvSpPr/>
          <p:nvPr/>
        </p:nvSpPr>
        <p:spPr>
          <a:xfrm>
            <a:off x="0" y="97956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ble of exact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3" name="" descr="">
            <a:hlinkClick r:id="" action="ppaction://hlinkshowjump?jump=previousslide"/>
            <a:hlinkClick r:id="rId24"/>
          </p:cNvPr>
          <p:cNvPicPr/>
          <p:nvPr/>
        </p:nvPicPr>
        <p:blipFill>
          <a:blip r:embed="rId25"/>
          <a:stretch/>
        </p:blipFill>
        <p:spPr>
          <a:xfrm>
            <a:off x="338040" y="6022800"/>
            <a:ext cx="600120" cy="60012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/>
          <p:nvPr/>
        </p:nvSpPr>
        <p:spPr>
          <a:xfrm>
            <a:off x="941400" y="6159600"/>
            <a:ext cx="117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Previ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24000" y="333360"/>
            <a:ext cx="84960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uadratic Theory                                                                                      High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24000" y="333360"/>
            <a:ext cx="84960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uadratic Theory                                                                                      High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22082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dratic The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13906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ollowing questions are 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349416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-calculator questions will be indic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00400" y="5867280"/>
            <a:ext cx="27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7686720" y="3216240"/>
            <a:ext cx="747720" cy="10033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436716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will need a pencil, paper, ruler and rubb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>
            <a:hlinkClick r:id="" action="ppaction://hlinkshowjump?jump=nextslide"/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191120" y="504828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8153280" y="4952880"/>
            <a:ext cx="551160" cy="848520"/>
            <a:chOff x="8153280" y="4952880"/>
            <a:chExt cx="551160" cy="848520"/>
          </a:xfrm>
        </p:grpSpPr>
        <p:pic>
          <p:nvPicPr>
            <p:cNvPr id="56" name="" descr=""/>
            <p:cNvPicPr/>
            <p:nvPr/>
          </p:nvPicPr>
          <p:blipFill>
            <a:blip r:embed="rId1"/>
            <a:stretch/>
          </p:blipFill>
          <p:spPr>
            <a:xfrm>
              <a:off x="8153280" y="4952880"/>
              <a:ext cx="524160" cy="4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8162640" y="5464080"/>
              <a:ext cx="54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">
            <a:hlinkClick r:id="" action="ppaction://hlinkshowjump?jump=endshow"/>
          </p:cNvPr>
          <p:cNvSpPr/>
          <p:nvPr/>
        </p:nvSpPr>
        <p:spPr>
          <a:xfrm>
            <a:off x="4325760" y="6056280"/>
            <a:ext cx="532080" cy="531720"/>
          </a:xfrm>
          <a:prstGeom prst="sun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87116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73608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6721560" y="4597560"/>
            <a:ext cx="619200" cy="6188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>
            <a:hlinkClick r:id="" action="ppaction://hlinkshowjump?jump=previousslide"/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38040" y="6022800"/>
            <a:ext cx="600120" cy="6001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941400" y="6159600"/>
            <a:ext cx="117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Previ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416720" y="619452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>
            <a:hlinkClick r:id="" action="ppaction://hlinkshowjump?jump=nextslide"/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256600" y="6026040"/>
            <a:ext cx="601560" cy="6019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7"/>
          <a:stretch/>
        </p:blipFill>
        <p:spPr>
          <a:xfrm>
            <a:off x="5738760" y="5891040"/>
            <a:ext cx="595440" cy="79884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324000" y="333360"/>
            <a:ext cx="84960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uadratic Theory                                                                                      High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10760" y="1017360"/>
            <a:ext cx="3614400" cy="11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304920"/>
                <a:tab algn="l" pos="609480"/>
                <a:tab algn="l" pos="990720"/>
                <a:tab algn="r" pos="6248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how that the line with equation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304920"/>
                <a:tab algn="l" pos="609480"/>
                <a:tab algn="l" pos="990720"/>
                <a:tab algn="r" pos="6248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es not intersect the parabo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304920"/>
                <a:tab algn="l" pos="609480"/>
                <a:tab algn="l" pos="990720"/>
                <a:tab algn="r" pos="6248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equ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3917880" y="1036800"/>
          <a:ext cx="1251000" cy="4032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917880" y="1036800"/>
                    <a:ext cx="1251000" cy="40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2090880" y="1805040"/>
          <a:ext cx="1868400" cy="4618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090880" y="1805040"/>
                    <a:ext cx="1868400" cy="46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"/>
          <p:cNvSpPr/>
          <p:nvPr/>
        </p:nvSpPr>
        <p:spPr>
          <a:xfrm>
            <a:off x="1049760" y="2583000"/>
            <a:ext cx="262368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t two equations equ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051560" y="3284640"/>
            <a:ext cx="191340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Use discrimina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49400" y="3933720"/>
            <a:ext cx="249876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how discriminant &lt;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051920" y="4581360"/>
            <a:ext cx="151272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real ro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8153280" y="4952880"/>
            <a:ext cx="551160" cy="848520"/>
            <a:chOff x="8153280" y="4952880"/>
            <a:chExt cx="551160" cy="848520"/>
          </a:xfrm>
        </p:grpSpPr>
        <p:pic>
          <p:nvPicPr>
            <p:cNvPr id="79" name="" descr=""/>
            <p:cNvPicPr/>
            <p:nvPr/>
          </p:nvPicPr>
          <p:blipFill>
            <a:blip r:embed="rId1"/>
            <a:stretch/>
          </p:blipFill>
          <p:spPr>
            <a:xfrm>
              <a:off x="8153280" y="4952880"/>
              <a:ext cx="524160" cy="4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"/>
            <p:cNvSpPr/>
            <p:nvPr/>
          </p:nvSpPr>
          <p:spPr>
            <a:xfrm>
              <a:off x="8162640" y="5464080"/>
              <a:ext cx="54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" name="">
            <a:hlinkClick r:id="" action="ppaction://hlinkshowjump?jump=endshow"/>
          </p:cNvPr>
          <p:cNvSpPr/>
          <p:nvPr/>
        </p:nvSpPr>
        <p:spPr>
          <a:xfrm>
            <a:off x="4325760" y="6056280"/>
            <a:ext cx="532080" cy="531720"/>
          </a:xfrm>
          <a:prstGeom prst="sun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87116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73608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6794640" y="4727520"/>
            <a:ext cx="618840" cy="6192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>
            <a:hlinkClick r:id="" action="ppaction://hlinkshowjump?jump=previousslide"/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38040" y="6022800"/>
            <a:ext cx="600120" cy="60012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941400" y="6159600"/>
            <a:ext cx="117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Previ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416720" y="619452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>
            <a:hlinkClick r:id="" action="ppaction://hlinkshowjump?jump=nextslide"/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256600" y="6026040"/>
            <a:ext cx="601560" cy="6019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7"/>
          <a:stretch/>
        </p:blipFill>
        <p:spPr>
          <a:xfrm>
            <a:off x="5738760" y="5891040"/>
            <a:ext cx="595440" cy="7988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324000" y="333360"/>
            <a:ext cx="84960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uadratic Theory                                                                                      High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60280" y="932760"/>
            <a:ext cx="66578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304920"/>
                <a:tab algn="l" pos="609480"/>
                <a:tab algn="l" pos="990720"/>
                <a:tab algn="r" pos="64771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ite                                             in the form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90000"/>
              </a:lnSpc>
              <a:tabLst>
                <a:tab algn="l" pos="0"/>
                <a:tab algn="l" pos="304920"/>
                <a:tab algn="l" pos="609480"/>
                <a:tab algn="l" pos="990720"/>
                <a:tab algn="r" pos="64771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nce or otherwise sketch the graph o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1371600" y="884160"/>
          <a:ext cx="2424240" cy="4683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371600" y="884160"/>
                    <a:ext cx="2424240" cy="4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7" name=""/>
          <p:cNvGraphicFramePr/>
          <p:nvPr/>
        </p:nvGraphicFramePr>
        <p:xfrm>
          <a:off x="5423040" y="841320"/>
          <a:ext cx="1604880" cy="6048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5423040" y="841320"/>
                    <a:ext cx="1604880" cy="60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9" name=""/>
          <p:cNvGraphicFramePr/>
          <p:nvPr/>
        </p:nvGraphicFramePr>
        <p:xfrm>
          <a:off x="5187960" y="1403280"/>
          <a:ext cx="1297080" cy="44604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187960" y="1403280"/>
                    <a:ext cx="1297080" cy="44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"/>
          <p:cNvSpPr/>
          <p:nvPr/>
        </p:nvSpPr>
        <p:spPr>
          <a:xfrm>
            <a:off x="609120" y="240840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1495440" y="2379600"/>
          <a:ext cx="2471760" cy="48888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1495440" y="2379600"/>
                    <a:ext cx="247176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608400" y="328464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447560" y="3236760"/>
            <a:ext cx="178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This is graph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3471840" y="3182760"/>
          <a:ext cx="895320" cy="48924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3471840" y="3182760"/>
                    <a:ext cx="895320" cy="48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"/>
          <p:cNvSpPr/>
          <p:nvPr/>
        </p:nvSpPr>
        <p:spPr>
          <a:xfrm>
            <a:off x="4696920" y="3236760"/>
            <a:ext cx="399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moved 3 places to left and 2 units u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694520" y="3906720"/>
            <a:ext cx="264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3300"/>
                </a:solidFill>
                <a:latin typeface="Times New Roman"/>
              </a:rPr>
              <a:t>minimum t.p. at  (-3,  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763160" y="3906720"/>
            <a:ext cx="234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y-intercept at (0,  1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" name=""/>
          <p:cNvGrpSpPr/>
          <p:nvPr/>
        </p:nvGrpSpPr>
        <p:grpSpPr>
          <a:xfrm>
            <a:off x="8153280" y="4952880"/>
            <a:ext cx="551160" cy="848520"/>
            <a:chOff x="8153280" y="4952880"/>
            <a:chExt cx="551160" cy="848520"/>
          </a:xfrm>
        </p:grpSpPr>
        <p:pic>
          <p:nvPicPr>
            <p:cNvPr id="112" name="" descr=""/>
            <p:cNvPicPr/>
            <p:nvPr/>
          </p:nvPicPr>
          <p:blipFill>
            <a:blip r:embed="rId1"/>
            <a:stretch/>
          </p:blipFill>
          <p:spPr>
            <a:xfrm>
              <a:off x="8153280" y="4952880"/>
              <a:ext cx="524160" cy="4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"/>
            <p:cNvSpPr/>
            <p:nvPr/>
          </p:nvSpPr>
          <p:spPr>
            <a:xfrm>
              <a:off x="8162640" y="5464080"/>
              <a:ext cx="54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">
            <a:hlinkClick r:id="" action="ppaction://hlinkshowjump?jump=endshow"/>
          </p:cNvPr>
          <p:cNvSpPr/>
          <p:nvPr/>
        </p:nvSpPr>
        <p:spPr>
          <a:xfrm>
            <a:off x="4325760" y="6056280"/>
            <a:ext cx="532080" cy="531720"/>
          </a:xfrm>
          <a:prstGeom prst="sun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87116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73608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6940440" y="5192640"/>
            <a:ext cx="619200" cy="6192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>
            <a:hlinkClick r:id="" action="ppaction://hlinkshowjump?jump=previousslide"/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38040" y="6022800"/>
            <a:ext cx="600120" cy="60012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941400" y="6159600"/>
            <a:ext cx="117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Previ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416720" y="619452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>
            <a:hlinkClick r:id="" action="ppaction://hlinkshowjump?jump=nextslide"/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256600" y="602604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324000" y="333360"/>
            <a:ext cx="84960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uadratic Theory                                                                                      High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2874960" y="1006560"/>
          <a:ext cx="3105000" cy="4744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874960" y="1006560"/>
                    <a:ext cx="3105000" cy="47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"/>
          <p:cNvSpPr/>
          <p:nvPr/>
        </p:nvSpPr>
        <p:spPr>
          <a:xfrm>
            <a:off x="338400" y="1045080"/>
            <a:ext cx="4223880" cy="8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how that the equation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real roots for all integer values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4760" y="2220840"/>
            <a:ext cx="191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3300"/>
                </a:solidFill>
                <a:latin typeface="Times New Roman"/>
              </a:rPr>
              <a:t>Use discrimina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2859120" y="2203560"/>
          <a:ext cx="4346640" cy="4334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859120" y="2203560"/>
                    <a:ext cx="434664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687240" y="2871720"/>
          <a:ext cx="4718160" cy="5256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87240" y="2871720"/>
                    <a:ext cx="4718160" cy="52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781280" y="3670200"/>
          <a:ext cx="2530440" cy="4730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781280" y="3670200"/>
                    <a:ext cx="2530440" cy="47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5148360" y="3625920"/>
          <a:ext cx="1660320" cy="4730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148360" y="3625920"/>
                    <a:ext cx="1660320" cy="47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544680" y="4264200"/>
            <a:ext cx="531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Consider when this is greater than or equal to ze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54760" y="4869000"/>
            <a:ext cx="15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Sketch graph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495520" y="4883040"/>
            <a:ext cx="150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cuts x axis 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371840" y="4791240"/>
          <a:ext cx="1992600" cy="6062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4371840" y="4791240"/>
                    <a:ext cx="1992600" cy="60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" name=""/>
          <p:cNvSpPr/>
          <p:nvPr/>
        </p:nvSpPr>
        <p:spPr>
          <a:xfrm>
            <a:off x="1285560" y="5416560"/>
            <a:ext cx="483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Hence equation has real roots for all integer 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"/>
          <p:cNvGrpSpPr/>
          <p:nvPr/>
        </p:nvGrpSpPr>
        <p:grpSpPr>
          <a:xfrm>
            <a:off x="8153280" y="4952880"/>
            <a:ext cx="551160" cy="848520"/>
            <a:chOff x="8153280" y="4952880"/>
            <a:chExt cx="551160" cy="848520"/>
          </a:xfrm>
        </p:grpSpPr>
        <p:pic>
          <p:nvPicPr>
            <p:cNvPr id="143" name="" descr=""/>
            <p:cNvPicPr/>
            <p:nvPr/>
          </p:nvPicPr>
          <p:blipFill>
            <a:blip r:embed="rId1"/>
            <a:stretch/>
          </p:blipFill>
          <p:spPr>
            <a:xfrm>
              <a:off x="8153280" y="4952880"/>
              <a:ext cx="524160" cy="4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8162640" y="5464080"/>
              <a:ext cx="54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>
            <a:hlinkClick r:id="" action="ppaction://hlinkshowjump?jump=endshow"/>
          </p:cNvPr>
          <p:cNvSpPr/>
          <p:nvPr/>
        </p:nvSpPr>
        <p:spPr>
          <a:xfrm>
            <a:off x="4325760" y="6056280"/>
            <a:ext cx="532080" cy="531720"/>
          </a:xfrm>
          <a:prstGeom prst="sun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87116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73608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6649920" y="5889600"/>
            <a:ext cx="619200" cy="61920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>
            <a:hlinkClick r:id="" action="ppaction://hlinkshowjump?jump=previousslide"/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38040" y="6022800"/>
            <a:ext cx="600120" cy="60012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941400" y="6159600"/>
            <a:ext cx="117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Previ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416720" y="619452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" descr="">
            <a:hlinkClick r:id="" action="ppaction://hlinkshowjump?jump=nextslide"/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256600" y="6026040"/>
            <a:ext cx="601560" cy="60192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7"/>
          <a:stretch/>
        </p:blipFill>
        <p:spPr>
          <a:xfrm>
            <a:off x="5738760" y="5891040"/>
            <a:ext cx="595440" cy="79884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324000" y="333360"/>
            <a:ext cx="84960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uadratic Theory                                                                                      High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383760" y="876240"/>
            <a:ext cx="4521600" cy="2177640"/>
            <a:chOff x="383760" y="876240"/>
            <a:chExt cx="4521600" cy="2177640"/>
          </a:xfrm>
        </p:grpSpPr>
        <p:sp>
          <p:nvSpPr>
            <p:cNvPr id="156" name=""/>
            <p:cNvSpPr/>
            <p:nvPr/>
          </p:nvSpPr>
          <p:spPr>
            <a:xfrm>
              <a:off x="383760" y="876240"/>
              <a:ext cx="4227120" cy="217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he diagram shows a sketch of a parabol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assing through (–1, 0), (0,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) and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, 0)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a)  Show that the equation of the parabola 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)  For what value of 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will the line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e a tangent to this curve?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57" name=""/>
            <p:cNvGraphicFramePr/>
            <p:nvPr/>
          </p:nvGraphicFramePr>
          <p:xfrm>
            <a:off x="1349280" y="1949400"/>
            <a:ext cx="1728720" cy="31428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158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1349280" y="1949400"/>
                      <a:ext cx="1728720" cy="314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59" name=""/>
            <p:cNvGraphicFramePr/>
            <p:nvPr/>
          </p:nvGraphicFramePr>
          <p:xfrm>
            <a:off x="3873600" y="2352600"/>
            <a:ext cx="1031760" cy="31140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160" name="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3873600" y="2352600"/>
                      <a:ext cx="1031760" cy="311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161" name="" descr=""/>
          <p:cNvPicPr/>
          <p:nvPr/>
        </p:nvPicPr>
        <p:blipFill>
          <a:blip r:embed="rId12"/>
          <a:stretch/>
        </p:blipFill>
        <p:spPr>
          <a:xfrm>
            <a:off x="5900760" y="828720"/>
            <a:ext cx="2814480" cy="207000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485280" y="315108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1135080" y="3181320"/>
          <a:ext cx="2181240" cy="3808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135080" y="3181320"/>
                    <a:ext cx="21812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5" name=""/>
          <p:cNvSpPr/>
          <p:nvPr/>
        </p:nvSpPr>
        <p:spPr>
          <a:xfrm>
            <a:off x="3442680" y="3165480"/>
            <a:ext cx="269856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point (0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to fi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6489720" y="3151080"/>
          <a:ext cx="2065320" cy="3603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489720" y="3151080"/>
                    <a:ext cx="206532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1176480" y="3718080"/>
          <a:ext cx="1058760" cy="3823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176480" y="3718080"/>
                    <a:ext cx="1058760" cy="38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2735280" y="3714840"/>
          <a:ext cx="824040" cy="33660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2735280" y="3714840"/>
                    <a:ext cx="824040" cy="33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2" name=""/>
          <p:cNvGraphicFramePr/>
          <p:nvPr/>
        </p:nvGraphicFramePr>
        <p:xfrm>
          <a:off x="4051440" y="3684600"/>
          <a:ext cx="2181240" cy="38088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4051440" y="3684600"/>
                    <a:ext cx="21812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946080" y="4165560"/>
          <a:ext cx="2914560" cy="43488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946080" y="4165560"/>
                    <a:ext cx="2914560" cy="43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6" name=""/>
          <p:cNvGraphicFramePr/>
          <p:nvPr/>
        </p:nvGraphicFramePr>
        <p:xfrm>
          <a:off x="4459320" y="4162320"/>
          <a:ext cx="2884320" cy="47304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4459320" y="4162320"/>
                    <a:ext cx="2884320" cy="47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" name=""/>
          <p:cNvSpPr/>
          <p:nvPr/>
        </p:nvSpPr>
        <p:spPr>
          <a:xfrm>
            <a:off x="484560" y="472428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990720" y="4751280"/>
            <a:ext cx="260856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ultaneous equ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3973680" y="4694400"/>
          <a:ext cx="2836800" cy="47304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3973680" y="4694400"/>
                    <a:ext cx="2836800" cy="47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2" name=""/>
          <p:cNvGraphicFramePr/>
          <p:nvPr/>
        </p:nvGraphicFramePr>
        <p:xfrm>
          <a:off x="1020600" y="5272200"/>
          <a:ext cx="1978200" cy="47304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1020600" y="5272200"/>
                    <a:ext cx="1978200" cy="47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4" name=""/>
          <p:cNvSpPr/>
          <p:nvPr/>
        </p:nvSpPr>
        <p:spPr>
          <a:xfrm>
            <a:off x="3194640" y="5300640"/>
            <a:ext cx="325620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Discriminant = 0 for tangen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6732720" y="5305320"/>
          <a:ext cx="714240" cy="37800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6732720" y="5305320"/>
                    <a:ext cx="714240" cy="37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366840" y="1037160"/>
            <a:ext cx="816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iven                                      , express             in the form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8153280" y="4952880"/>
            <a:ext cx="551160" cy="848520"/>
            <a:chOff x="8153280" y="4952880"/>
            <a:chExt cx="551160" cy="848520"/>
          </a:xfrm>
        </p:grpSpPr>
        <p:pic>
          <p:nvPicPr>
            <p:cNvPr id="189" name="" descr=""/>
            <p:cNvPicPr/>
            <p:nvPr/>
          </p:nvPicPr>
          <p:blipFill>
            <a:blip r:embed="rId1"/>
            <a:stretch/>
          </p:blipFill>
          <p:spPr>
            <a:xfrm>
              <a:off x="8153280" y="4952880"/>
              <a:ext cx="524160" cy="4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8162640" y="5464080"/>
              <a:ext cx="54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1" name="">
            <a:hlinkClick r:id="" action="ppaction://hlinkshowjump?jump=endshow"/>
          </p:cNvPr>
          <p:cNvSpPr/>
          <p:nvPr/>
        </p:nvSpPr>
        <p:spPr>
          <a:xfrm>
            <a:off x="4325760" y="6056280"/>
            <a:ext cx="532080" cy="531720"/>
          </a:xfrm>
          <a:prstGeom prst="sun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87116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73608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6576840" y="1955880"/>
            <a:ext cx="619200" cy="6192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>
            <a:hlinkClick r:id="" action="ppaction://hlinkshowjump?jump=previousslide"/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38040" y="6022800"/>
            <a:ext cx="600120" cy="60012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941400" y="6159600"/>
            <a:ext cx="117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Previ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416720" y="619452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" name="" descr="">
            <a:hlinkClick r:id="" action="ppaction://hlinkshowjump?jump=nextslide"/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256600" y="6026040"/>
            <a:ext cx="601560" cy="60192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5738760" y="5891040"/>
            <a:ext cx="595440" cy="79884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24000" y="333360"/>
            <a:ext cx="84960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uadratic Theory                                                                                      High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233360" y="1006560"/>
          <a:ext cx="2256120" cy="4554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233360" y="1006560"/>
                    <a:ext cx="2256120" cy="45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4" name=""/>
          <p:cNvGraphicFramePr/>
          <p:nvPr/>
        </p:nvGraphicFramePr>
        <p:xfrm>
          <a:off x="4471920" y="1065240"/>
          <a:ext cx="690480" cy="4032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471920" y="1065240"/>
                    <a:ext cx="690480" cy="40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6" name=""/>
          <p:cNvGraphicFramePr/>
          <p:nvPr/>
        </p:nvGraphicFramePr>
        <p:xfrm>
          <a:off x="6488280" y="925560"/>
          <a:ext cx="1581120" cy="59544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6488280" y="925560"/>
                    <a:ext cx="1581120" cy="59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8" name=""/>
          <p:cNvGraphicFramePr/>
          <p:nvPr/>
        </p:nvGraphicFramePr>
        <p:xfrm>
          <a:off x="2681280" y="2017800"/>
          <a:ext cx="2381400" cy="45540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2681280" y="2017800"/>
                    <a:ext cx="2381400" cy="45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0" name=""/>
          <p:cNvGrpSpPr/>
          <p:nvPr/>
        </p:nvGrpSpPr>
        <p:grpSpPr>
          <a:xfrm>
            <a:off x="8153280" y="4952880"/>
            <a:ext cx="551160" cy="848520"/>
            <a:chOff x="8153280" y="4952880"/>
            <a:chExt cx="551160" cy="848520"/>
          </a:xfrm>
        </p:grpSpPr>
        <p:pic>
          <p:nvPicPr>
            <p:cNvPr id="211" name="" descr=""/>
            <p:cNvPicPr/>
            <p:nvPr/>
          </p:nvPicPr>
          <p:blipFill>
            <a:blip r:embed="rId1"/>
            <a:stretch/>
          </p:blipFill>
          <p:spPr>
            <a:xfrm>
              <a:off x="8153280" y="4952880"/>
              <a:ext cx="524160" cy="4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2" name=""/>
            <p:cNvSpPr/>
            <p:nvPr/>
          </p:nvSpPr>
          <p:spPr>
            <a:xfrm>
              <a:off x="8162640" y="5464080"/>
              <a:ext cx="54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3" name="">
            <a:hlinkClick r:id="" action="ppaction://hlinkshowjump?jump=endshow"/>
          </p:cNvPr>
          <p:cNvSpPr/>
          <p:nvPr/>
        </p:nvSpPr>
        <p:spPr>
          <a:xfrm>
            <a:off x="4325760" y="6056280"/>
            <a:ext cx="532080" cy="531720"/>
          </a:xfrm>
          <a:prstGeom prst="sun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87116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73608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4894200" y="4394160"/>
            <a:ext cx="619200" cy="61920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>
            <a:hlinkClick r:id="" action="ppaction://hlinkshowjump?jump=previousslide"/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38040" y="6022800"/>
            <a:ext cx="600120" cy="6001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941400" y="6159600"/>
            <a:ext cx="117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Previ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7416720" y="619452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>
            <a:hlinkClick r:id="" action="ppaction://hlinkshowjump?jump=nextslide"/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256600" y="6026040"/>
            <a:ext cx="601560" cy="60192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5738760" y="5891040"/>
            <a:ext cx="595440" cy="79884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324000" y="333360"/>
            <a:ext cx="84960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uadratic Theory                                                                                      High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14640" y="980280"/>
            <a:ext cx="856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what value of  k  does the equation                                        have equal roots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4484520" y="977760"/>
          <a:ext cx="2327400" cy="4334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2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484520" y="977760"/>
                    <a:ext cx="232740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7" name=""/>
          <p:cNvGraphicFramePr/>
          <p:nvPr/>
        </p:nvGraphicFramePr>
        <p:xfrm>
          <a:off x="2459160" y="1798560"/>
          <a:ext cx="2938320" cy="4050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459160" y="1798560"/>
                    <a:ext cx="2938320" cy="40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9" name=""/>
          <p:cNvSpPr/>
          <p:nvPr/>
        </p:nvSpPr>
        <p:spPr>
          <a:xfrm>
            <a:off x="486000" y="1857240"/>
            <a:ext cx="150948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crimina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2471760" y="2467080"/>
          <a:ext cx="2913120" cy="45540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231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2471760" y="2467080"/>
                    <a:ext cx="2913120" cy="45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2" name=""/>
          <p:cNvGraphicFramePr/>
          <p:nvPr/>
        </p:nvGraphicFramePr>
        <p:xfrm>
          <a:off x="2927520" y="3192480"/>
          <a:ext cx="2000160" cy="35388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233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2927520" y="3192480"/>
                    <a:ext cx="2000160" cy="35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4" name=""/>
          <p:cNvGraphicFramePr/>
          <p:nvPr/>
        </p:nvGraphicFramePr>
        <p:xfrm>
          <a:off x="3508200" y="3862440"/>
          <a:ext cx="809640" cy="35388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3508200" y="3862440"/>
                    <a:ext cx="809640" cy="35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6" name=""/>
          <p:cNvGraphicFramePr/>
          <p:nvPr/>
        </p:nvGraphicFramePr>
        <p:xfrm>
          <a:off x="3533760" y="4367160"/>
          <a:ext cx="758880" cy="78444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3533760" y="4367160"/>
                    <a:ext cx="758880" cy="78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8" name=""/>
          <p:cNvSpPr/>
          <p:nvPr/>
        </p:nvSpPr>
        <p:spPr>
          <a:xfrm>
            <a:off x="439920" y="3024360"/>
            <a:ext cx="1852560" cy="703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qual ro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criminant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0" y="30844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have completed all 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estions in this s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>
            <a:hlinkClick r:id="rId1" action="ppaction://hlinksldjump"/>
          </p:cNvPr>
          <p:cNvSpPr/>
          <p:nvPr/>
        </p:nvSpPr>
        <p:spPr>
          <a:xfrm>
            <a:off x="7450200" y="5872320"/>
            <a:ext cx="1160280" cy="341280"/>
          </a:xfrm>
          <a:custGeom>
            <a:avLst/>
            <a:gdLst>
              <a:gd name="textAreaLeft" fmla="*/ 203040 w 1160280"/>
              <a:gd name="textAreaRight" fmla="*/ 841320 w 1160280"/>
              <a:gd name="textAreaTop" fmla="*/ 45720 h 341280"/>
              <a:gd name="textAreaBottom" fmla="*/ 295560 h 341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00cc00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386480" y="6343560"/>
            <a:ext cx="131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Back to sta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>
            <a:hlinkClick r:id="" action="ppaction://hlinkshowjump?jump=endshow"/>
          </p:cNvPr>
          <p:cNvSpPr/>
          <p:nvPr/>
        </p:nvSpPr>
        <p:spPr>
          <a:xfrm>
            <a:off x="4313160" y="6122880"/>
            <a:ext cx="531720" cy="532080"/>
          </a:xfrm>
          <a:prstGeom prst="sun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858200" y="62373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723120" y="62373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5" name="" descr="">
            <a:hlinkClick r:id="" action="ppaction://hlinkshowjump?jump=previousslide"/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38040" y="6022800"/>
            <a:ext cx="600120" cy="6001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941400" y="6159600"/>
            <a:ext cx="117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Previ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24000" y="333360"/>
            <a:ext cx="84960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uadratic Theory                                                                                      High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31T14:02:10Z</dcterms:created>
  <dc:creator>Derek Warburton</dc:creator>
  <dc:description/>
  <dc:language>en-US</dc:language>
  <cp:lastModifiedBy>Derek Warburton</cp:lastModifiedBy>
  <dcterms:modified xsi:type="dcterms:W3CDTF">2004-05-17T20:35:49Z</dcterms:modified>
  <cp:revision>304</cp:revision>
  <dc:subject/>
  <dc:title>PowerPoint Presentation</dc:title>
</cp:coreProperties>
</file>